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695-4F85-4042-A6F6-281DC3EC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79B-F6C6-4714-B3AC-47C499BC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FF0-E11C-4587-96C3-7E1E25E3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2B5-0C86-46B1-99E0-B78C86E3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BEE2-7F9B-4A87-8757-FD860BDA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FFB5-42A2-4C2B-82AD-8AD07264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F4A5-85A5-454B-9A32-4E56272C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76D8-F14F-460A-B738-6F385ED2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1682-D6C4-4696-81AA-966658CD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483A-34EF-4A60-8E21-26ED4DDE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95A8-65E5-43AA-80EF-981AF062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826-D652-4B31-9B45-6704018F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A777-D976-43CF-BCAF-45592124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021-B5FB-42E5-99E6-184F7D9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395F-261C-468C-9018-4875FD00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FA05-A5DA-4BFB-BB78-850E88BB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2B38-FF70-4DCD-8B43-F2693D50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14E-8565-485B-B5E2-415AE887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688-97D8-4300-8D1B-1354C4B1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5C1-F8BC-4B29-9582-5A2AA8F1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188-2FDA-4C77-9B40-50855D9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F2F-0A1F-46C2-8B59-14068A36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325-A3F9-44E4-9630-F54297D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90E-CA85-4ACC-830F-35DFC7D4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A83F-6221-4F54-9F78-0D9AEC582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DF6D-4211-44BC-8D59-CF531E408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ontext Clu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rade 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plant that grows on tree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he trees had fuzzy green moss all over them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 is a plant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Jane threw her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lariat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to rope the baby cow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aria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owbo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ong rope with a loop on on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long rope with a loop on one e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o rope the baby cow” tell that 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riat is a long rope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ogs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nippe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t the cows’ heels with their teeth to move them along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ipp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rk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app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snapp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nipped at the cows’ heels with their teeth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ipped mean snapp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mother cows looked over their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calve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to make sure they were safe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l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ng c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i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young cow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mother cows looked over their calves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alves are young cow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statement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showed us how much money we had in the bank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tate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redit ca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iece of pap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piece of paper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showed how much money we had in the bank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 statement is a piece of paper with information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membe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 the other word clues in the sentences to figure out what a word mea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ues in a sentence can tell you the meaning of a new word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a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 liquid that moves inside a tree and brings food to the leaves and branch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sentence above, the words “a liquid that moves inside a tree and brings food to the leaves and branches” tell you w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a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0592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We took a walk in the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forest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. There were trees as far as we could see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here were trees as far as we could see” tell us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 forest is a place with many tre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059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d showed us an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ancien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redwood tree. He said it was very, very old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very, very old” tell us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nci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eans very, very ol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Now you try one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ldest tree was thre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ous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years old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ous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g numb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mall n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 big number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s “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ree thousand years old”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ell us tha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ousand means a big number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n the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swamp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, the water came up to our knees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wam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ocky pla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wet pl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 wet plac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s “the water came up to our knees” tell us tha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 swamp is a wet pl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Some of the trees had fuzzy green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moss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ll over them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g anim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lant that grows on tre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3:33:35Z</dcterms:created>
  <dc:creator>cooperb</dc:creator>
  <dc:description/>
  <dc:language>en-US</dc:language>
  <cp:lastModifiedBy>dyera</cp:lastModifiedBy>
  <dcterms:modified xsi:type="dcterms:W3CDTF">2007-11-01T15:46:44Z</dcterms:modified>
  <cp:revision>2</cp:revision>
  <dc:subject/>
  <dc:title>Context Clues</dc:title>
</cp:coreProperties>
</file>